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F35-0AF1-4B82-9A5D-F5D683DC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B71-3B78-4609-A492-392FA116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786-9930-4ABE-9C1A-061E4EC3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A3F-40E8-4B67-A0FD-F9E301EC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5D82-8D50-49DD-BEED-6A9C03D5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913F-5759-45F8-93D1-977BF23A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E057-2F20-4E84-88EE-F0BEF26A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8D0E-9B88-4D6A-A331-908E74A1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079-D619-46EC-BABE-D2018149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BDB-1E05-4999-AF4A-BCFCB24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172-7181-4C70-BA6A-6604C56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A25-999D-4647-949A-1239F11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C6E-6A55-43EE-A133-CD2AB0FF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274E-56DA-4204-8E4E-245CB3A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761D-CFC7-4129-AD67-2F260F6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E3B-883E-4634-B437-1C964B84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56B2-F669-44AA-B319-C1F0DA63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EBD-43E3-4B51-BC4E-856F413C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D16-6718-4D4E-A739-0C8698E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59F-F856-46F5-A42D-BA2449A7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520-AEFD-4C69-B1FF-C4BD31E4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909-8CC6-4069-A6D6-0BF9C08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DFF-221D-4C4A-9B1E-1E3EF08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7A5-44BC-4E4B-A6E6-7AD968A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AA2-9796-4C0E-9E0C-454B78FFA4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86F-6770-4937-A289-F88D605FE4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iss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imple or stratifi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= 1 layer of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ified = multiple lay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sha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mous – flat like a fried eg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al – like little hexagonol bo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umnar – like the cuboidal but tal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e hand outs of pages 94-96 for the different types of epithelia, both simple and stratifi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diverse tissues of the 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 of 3 different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alize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in Fi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id known 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nd Sub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tein fibers and ground substance combine to make up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matrix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urrounds the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exposed to the outside environment although they are throughout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y vasculariz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receptors to pain, pressure, temperature, and other sens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differences between epithelia and connective tissu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l tissues are composed mainly of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s has a majority of its volume consisting of the extra-cellular matr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uses of 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 &amp; Prot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to establish a bony structural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ort Materi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uid connective tissues are very efficient at moving dissolved materials throughout the 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uses of connective t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age of Energy Reser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ipose cells store energy until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ense of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 to invaders of the body and produce antibo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Tissue under the skin, fat, tendons and liga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many types of cells and fibers in a syrupy ground subs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uid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Blood and Lymp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 a distinctive cell population in a watery ground substance with dissolved prote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 single cell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there are trillions of cells in the human body, there are only about 200 different types of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s types combine to for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iss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s of specialized cells and cell products that perform a limited number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stolog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study of tiss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Major types of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ing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Cartilage and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diverse cell population than CTP but has a matrix of dense ground substance and closely packed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ne is fiberous but calcified to provide rigidity and str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look at the player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96048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jor Cell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robla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roph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 cells (adipocyt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 Ce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n include stem cells and cells that produce antibod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 Tissue Fi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gen – long, straight, and unbranched strong and flex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astic – Contain the prote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ast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y are branched and wav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icular – Least common and form a woven branching frame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nd Subst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clear and colorl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of maple syr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helps slow bacteria and makes it easier for macrophages to consume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ied as either Loose or D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o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st differentiated, contains all of the cells of C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s a layer that separates skin from underlying mus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you can pinch skin without distorting the mus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se con’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ipose Tissue (F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imilar to Areolar Tissue, just has a majority of adipoc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nd under the skin on the sides, buttocks and brea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nective Tissue Prop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nse Connective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ly collagen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dons – connect skeletal muscle to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aments – Connect bone to b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luid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y matrix called plas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ly Red Blood Cells (RBC’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White Blood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Fluid Connective Tissues Work Toge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sma is in constant motion in the blood vessels due to contractions of the he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t gets to capillaries, solutes will dissolve into interstitial fluid (fluid surrounding body cell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interstitial fluid enters lymphatic vessels, lymph 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es cells of the immune system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 the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basic tissue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ver exposed surfa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internal passages and cha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 Glandular secre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internal sp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structural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Ener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pporting Connective Tiss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til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m gel matrix containing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ondrocy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scular – why it is difficult to rep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d from other tissues by the perichond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types of Cartil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ugh by flexible, connects ribs to sternum, covers bone surfaces in j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resilient and flexible, found in the outer ear flap and epiglott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brocartil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little ground substance, mostly collagen fi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between vertebrae, connecting bones in the pelv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es will be covered in the skeletal uni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basic tissue types con’t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cts to produce active mo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ucts electrical impul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ries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the outside i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ithelia (singular: epithelium) -- covers internal and external surf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ands – secreting cells derived from epithe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haracteristic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und closely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re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(apical) surfa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exposed to the environment or internal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ached to other cells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ement membr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lood vessels; cell must obtain nutrients across basement memb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ally regenerated due to damage or l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s of Epithel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physical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st abrasion, dehydration or destructive ag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perme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sen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relay info to the nervou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 specialized secre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 cell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lan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re tissue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landular epithel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note about secretion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secretions are discharged onto the surface of the epithelium, they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oc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Milk, sweat, digestive enzy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secretions are released into the surrounding tissue fluid and blood, they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c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chemical messen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thelial Surf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KA Apical Su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have specialized struc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vil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finger-like projections of the cell su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increase surface area for absorption and secretion of materi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in the digestive and urinary tra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l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 hair like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nd in the respiratory tr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move mucus trapped irrit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13:09Z</dcterms:created>
  <dc:creator>Rich South</dc:creator>
  <dc:description/>
  <dc:language>en-US</dc:language>
  <cp:lastModifiedBy>Rich South</cp:lastModifiedBy>
  <dcterms:modified xsi:type="dcterms:W3CDTF">2007-01-29T23:15:56Z</dcterms:modified>
  <cp:revision>8</cp:revision>
  <dc:subject/>
  <dc:title>T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